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5134-B0B9-470D-9032-4642E27EE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F01E-CCC8-4BA0-A795-3B46670E8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FFA0-394C-42B8-98AB-AC9C6B446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7D7F-C305-4026-BCDF-F9F0229D3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AB49-A13D-4720-A30B-695B6A5BC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0A35-4793-4F62-8E9E-4926C3A36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9AFA-30F8-4F17-A28A-4BCD71B54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B12D-B465-45E8-A1F7-50E9D5CA4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4F8A-24DE-45FF-8819-0EA254514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D98F-1E33-43DA-8AA8-2191C6EF9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0072-B20D-47F4-A6F9-67CA57F2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5E92-5E53-4C1C-8B27-F7F3BFD93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45A27-EF26-4892-8434-A5AA84BF86A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05120" cy="25401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6400800" y="4724280"/>
            <a:ext cx="27432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AAMI 9P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484360" y="0"/>
            <a:ext cx="40197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pperplate Gothic Bold"/>
              </a:rPr>
              <a:t>MICHEAL LONG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pperplate Gothic Bold"/>
              <a:ea typeface="Copperplate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1476360" y="3160800"/>
            <a:ext cx="5543640" cy="156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MICHEAL LONG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050920" y="189000"/>
            <a:ext cx="4753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ESSENDON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3564000" cy="5545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755640" y="189000"/>
            <a:ext cx="777708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Long was a pioneer against racial vilification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589200" y="1341000"/>
            <a:ext cx="5554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orn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01.10.1969, Darwin, Australi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cruited from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St Mary’s (NT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rst EFC Game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vs. West Coast, Round 1, 198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ast EFC Game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vs. Hawthorn, Preliminary Final, 2001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FC Games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190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FC Goals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143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emiership player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1993, 2000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FC Captain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1999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FC Vice Captain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1996, 1998-200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3564000" cy="4680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1692360" y="260280"/>
            <a:ext cx="549576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Michael Long – The Fac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7417080" cy="5256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2340000" y="5950080"/>
            <a:ext cx="3816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E END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7T02:03:27Z</dcterms:created>
  <dc:creator>Reservoir District Secondary College</dc:creator>
  <dc:description/>
  <dc:language>en-US</dc:language>
  <cp:lastModifiedBy>Reservoir District Secondary College</cp:lastModifiedBy>
  <dcterms:modified xsi:type="dcterms:W3CDTF">2008-08-07T06:20:45Z</dcterms:modified>
  <cp:revision>4</cp:revision>
  <dc:subject/>
  <dc:title>Slide 1</dc:title>
</cp:coreProperties>
</file>